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D290-937E-49E3-93E7-717D76DA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225-7913-4AC1-9FB7-B93D79A9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54D-509A-4935-9FAB-C43E7671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B3E-D81F-4EDB-B7C5-88ABC637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C299-4FFC-4A02-8876-57586580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2C1-267D-435E-A4C2-C8979E80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D23-FB05-485B-BFC3-3B0FED78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67CB-1C56-4C71-862B-8EAD534D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77D8-512B-43A6-A1F0-CF383D9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D950-BCEE-42F5-ACF9-4C53118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843-7738-4CC3-9F73-68167AC1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3D5-ED6D-42BC-B2F6-79EFC70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B764-3C47-4FFE-9369-31414788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073D-06A3-4D3D-91B1-2DD6CA5B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4781-E949-4FDB-A63D-F6B2D3F3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70A1-C98E-49F2-90C6-77175693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BAC-CF28-4ACE-892B-B32FB208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60E-5F11-457D-B594-E73E1B1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75B-1984-4E0B-A114-F3C9673A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D10-FF84-4671-A9CB-8D9A1B7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456-18F3-4566-A719-CDCC5225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F13-55EF-4796-A7FA-D309848F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8E1-D681-4D16-B950-E407043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2FD-FC7B-4214-A2CE-47D055F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032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CFEF-60DB-4186-9ABB-D1177793A0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A439-8A45-4703-809B-CF00D8F40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1027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28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1030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31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032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33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39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2C42-0EED-4432-A1D0-3952028A4D6C}" type="datetime">
              <a:rPr b="0" lang="en-US" sz="1400" spc="-1" strike="noStrike">
                <a:solidFill>
                  <a:srgbClr val="1c1c1c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468-2176-41D7-8DD3-E8C7352CF88E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2057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ct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220760" y="106668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666880"/>
            <a:ext cx="75438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tomic nuclei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they have about the same number of protons and neu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nuclei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s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 they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o m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o f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u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73040" y="106668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09480" y="220968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rue for heavier elements such a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luto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3520" y="34290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se nuclei, repulsion builds up.  The nucleus must release a particle to become st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33520" y="51814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ease of nuclear particles and energy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dioactive dec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20760" y="114300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2286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articles that are ejected from a nucleus include protons,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nucleus chan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85800" y="38098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hen this happens, one element changes into another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85800" y="50292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nging of one element into another through radioactive decay is call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mu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553080" y="228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hand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20040" y="10666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20574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ls a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lpha particl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2 protons &amp; 2 neutron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t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no long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im56"/>
          <p:cNvPicPr/>
          <p:nvPr/>
        </p:nvPicPr>
        <p:blipFill>
          <a:blip r:embed="rId1"/>
          <a:stretch/>
        </p:blipFill>
        <p:spPr>
          <a:xfrm>
            <a:off x="1066680" y="3657600"/>
            <a:ext cx="71629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220040" y="114300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9480" y="2209680"/>
            <a:ext cx="7696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transmutation, it becomes the element that has 93 proton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7" descr="im56"/>
          <p:cNvPicPr/>
          <p:nvPr/>
        </p:nvPicPr>
        <p:blipFill>
          <a:blip r:embed="rId1"/>
          <a:stretch/>
        </p:blipFill>
        <p:spPr>
          <a:xfrm>
            <a:off x="990720" y="35053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296000" y="10666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20574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the mass and atomic number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alpha particle add up to the mass and atomic numbe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0" descr="im56"/>
          <p:cNvPicPr/>
          <p:nvPr/>
        </p:nvPicPr>
        <p:blipFill>
          <a:blip r:embed="rId1"/>
          <a:stretch/>
        </p:blipFill>
        <p:spPr>
          <a:xfrm>
            <a:off x="990720" y="37339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296360" y="1143000"/>
            <a:ext cx="289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85800" y="26668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of decay of a nucleus is measured by i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62120" y="42670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adioactive isotope is the amount of time it takes for half of a sample of the element to dec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221480" y="106668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920" y="205740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-131 has a half-life of eight day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1" descr="im62"/>
          <p:cNvPicPr/>
          <p:nvPr/>
        </p:nvPicPr>
        <p:blipFill>
          <a:blip r:embed="rId1"/>
          <a:stretch/>
        </p:blipFill>
        <p:spPr>
          <a:xfrm>
            <a:off x="3276720" y="2590920"/>
            <a:ext cx="5562360" cy="31604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28600" y="3200400"/>
            <a:ext cx="30481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start with a sample of 4 g of iodine-131, after eight days you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8320" y="579132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only 2 g of iodine-131 rem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53080" y="228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of hand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221480" y="106668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685800" y="236232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dioactive decay of unstable atoms goes on at a steady pace, unaffected by conditions such as weather, pressure, magnetic or electric fields, and even chemical rea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96360" y="990720"/>
            <a:ext cx="425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entifying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2120" y="2133720"/>
            <a:ext cx="761976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oms of different elements contain different numbers of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85800" y="3200400"/>
            <a:ext cx="76201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 is the number of pr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s of an element are identified by the number of protons because this number never changes without changing the identity of the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6360" y="114300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09480" y="198108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-14 is used to determine the age of dead animals, plants, and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09480" y="3127320"/>
            <a:ext cx="7543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living organism, the amount of carbon-14 remains in constant balance with the levels of the isotope in the atmosphere or oce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09480" y="5146560"/>
            <a:ext cx="7925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balance occurs because living organisms take in and release carb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296360" y="114300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905120"/>
            <a:ext cx="48006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chaeologists find an ancient item, they can find out how much carbon-14 it has and compare it with the amount of carbon-14 the animal would have had when it was aliv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3520" y="54100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ing the half-life of carbon-14, they can then calculate when the animal li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im65"/>
          <p:cNvPicPr/>
          <p:nvPr/>
        </p:nvPicPr>
        <p:blipFill>
          <a:blip r:embed="rId1"/>
          <a:stretch/>
        </p:blipFill>
        <p:spPr>
          <a:xfrm>
            <a:off x="5486400" y="2133720"/>
            <a:ext cx="3390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6360" y="106668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22096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geologists want to determine the age of rocks, they cannot use carbon da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09480" y="3219480"/>
            <a:ext cx="7696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, geologists examine the deca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09480" y="4232160"/>
            <a:ext cx="7925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ranium-23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ays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ad-20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a half-life of 4.5 billion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373400" y="1066680"/>
            <a:ext cx="556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ing Synthetic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09480" y="2057400"/>
            <a:ext cx="7925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now create new elements by smashing atomic particles into a target element, thereby increasing the atomic numb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85800" y="3844800"/>
            <a:ext cx="79246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 element is called 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NTH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ause it is made by hum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with atomic numbers 93 and higher have been made in this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296000" y="106668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666880"/>
            <a:ext cx="762012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type of atom can have a varying number of neutrons in its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toms of carbon have six neutro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have seven neutrons and some have e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94240" y="0"/>
            <a:ext cx="1888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220040" y="11430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5800" y="251460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toms are carbon atoms because they all have six prot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3" descr="im46"/>
          <p:cNvPicPr/>
          <p:nvPr/>
        </p:nvPicPr>
        <p:blipFill>
          <a:blip r:embed="rId1"/>
          <a:stretch/>
        </p:blipFill>
        <p:spPr>
          <a:xfrm>
            <a:off x="1066680" y="3657600"/>
            <a:ext cx="7010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96000" y="11430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80880" y="2057400"/>
            <a:ext cx="8534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hree kinds of carbon atoms are called isotopes.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toms of the same element that have different number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UT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" descr="im46"/>
          <p:cNvPicPr/>
          <p:nvPr/>
        </p:nvPicPr>
        <p:blipFill>
          <a:blip r:embed="rId1"/>
          <a:stretch/>
        </p:blipFill>
        <p:spPr>
          <a:xfrm>
            <a:off x="1143000" y="3886200"/>
            <a:ext cx="70102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372680" y="10666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38080" y="20574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isotope is the number of neutrons plus prot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im48"/>
          <p:cNvPicPr/>
          <p:nvPr/>
        </p:nvPicPr>
        <p:blipFill>
          <a:blip r:embed="rId1"/>
          <a:stretch/>
        </p:blipFill>
        <p:spPr>
          <a:xfrm>
            <a:off x="1676520" y="327672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72680" y="10666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198108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find the number of neutrons in an isotope by subtracting the atomic number from the mass numb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im48"/>
          <p:cNvPicPr/>
          <p:nvPr/>
        </p:nvPicPr>
        <p:blipFill>
          <a:blip r:embed="rId1"/>
          <a:stretch/>
        </p:blipFill>
        <p:spPr>
          <a:xfrm>
            <a:off x="1600200" y="335268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221480" y="106668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362320"/>
            <a:ext cx="716292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protons are positively charged, the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y tend to rep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ch other just as the north ends of two magnets tend to push each other apar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when they are packed together in the nucleus with the neutrons, an even stronge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nding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kes 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705720" y="30492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gin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7440" y="106668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48896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2743200"/>
            <a:ext cx="803916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force is calle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ong nuclear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ong nuclear 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hold the protons together only when they are as closely packed as they are in the nucleus of the a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81040" y="37296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31:13Z</dcterms:created>
  <dc:creator>Cherie Hatton</dc:creator>
  <dc:description/>
  <dc:language>en-US</dc:language>
  <cp:lastModifiedBy>St. Aloysius</cp:lastModifiedBy>
  <cp:lastPrinted>2011-10-06T14:13:20Z</cp:lastPrinted>
  <dcterms:modified xsi:type="dcterms:W3CDTF">2012-10-19T17:17:07Z</dcterms:modified>
  <cp:revision>412</cp:revision>
  <dc:subject/>
  <dc:title>Slide 1</dc:title>
</cp:coreProperties>
</file>